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C7B-F9F3-475C-94F0-04C293C1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AD0-0113-4E91-996A-4400BD64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0C3-FC3F-4CED-A95B-5AD8C717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B54-5E50-4284-8380-DF0740D8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38B-66EE-47BE-9C52-38B0C652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69C-EA18-43A2-8A4F-5AC08D2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B4A-522D-48DA-9C67-1C4DE44A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C30-335A-4AED-90EF-F174D8F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8AC-474F-423C-A443-84E2ED1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141-A435-4150-94E8-010ECCD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235-158A-4E20-852A-ED07437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725-A667-47F8-8A0A-BBD94BD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8B1-ED27-4113-9C8A-7335DC35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73;&#1077;&#1083;&#1100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1;&#1080;&#1089;&#1090;&#1100;&#1103;" TargetMode="External"/><Relationship Id="rId4" Type="http://schemas.openxmlformats.org/officeDocument/2006/relationships/hyperlink" Target="http://ru.wikipedia.org/wiki/&#1062;&#1074;&#1077;&#1090;&#1099;" TargetMode="External"/><Relationship Id="rId5" Type="http://schemas.openxmlformats.org/officeDocument/2006/relationships/hyperlink" Target="http://ru.wikipedia.org/wiki/&#1051;&#1077;&#1087;&#1077;&#1089;&#1090;&#1086;&#1082;" TargetMode="External"/><Relationship Id="rId6" Type="http://schemas.openxmlformats.org/officeDocument/2006/relationships/hyperlink" Target="http://ru.wikipedia.org/wiki/&#1063;&#1072;&#1096;&#1077;&#1083;&#1080;&#1089;&#1090;&#1080;&#1082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2;&#1085;&#1086;&#1075;&#1086;&#1083;&#1077;&#1090;&#1085;&#1080;&#1077;_&#1088;&#1072;&#1089;&#1090;&#1077;&#1085;&#1080;&#1103;" TargetMode="External"/><Relationship Id="rId3" Type="http://schemas.openxmlformats.org/officeDocument/2006/relationships/hyperlink" Target="http://ru.wikipedia.org/wiki/&#1042;&#1086;&#1076;&#1085;&#1099;&#1077;_&#1088;&#1072;&#1089;&#1090;&#1077;&#1085;&#1080;&#1103;" TargetMode="External"/><Relationship Id="rId4" Type="http://schemas.openxmlformats.org/officeDocument/2006/relationships/hyperlink" Target="http://ru.wikipedia.org/wiki/&#1050;&#1086;&#1088;&#1085;&#1077;&#1074;&#1080;&#1097;&#1077;" TargetMode="External"/><Relationship Id="rId5" Type="http://schemas.openxmlformats.org/officeDocument/2006/relationships/hyperlink" Target="http://ru.wikipedia.org/wiki/&#1051;&#1080;&#1089;&#1090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вариумные раст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необходимый элемент любого аквар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ышные заро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дных раст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располагаясь в толще воды, создают новые специфические возможности пространственной аранжировки, присущие только водной стих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двигия ползуч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Ludwigia repe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астения с прямостоячим или горизонтально растущим стеблем и супротивным или очередным листорасполо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 высотой до 50 см с удлиненным прямостоячим стеблем, дающим много боковых побегов, растет в болотах и под водой в южной части Северной Америки, в Центральной Америке и на Больших Антильских островах. Листорасположение супротивно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Людвигия ползучая. Видовой аквариум с кардиналами"/>
          <p:cNvPicPr/>
          <p:nvPr/>
        </p:nvPicPr>
        <p:blipFill>
          <a:blip r:embed="rId1"/>
          <a:stretch/>
        </p:blipFill>
        <p:spPr>
          <a:xfrm>
            <a:off x="5257800" y="18288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яс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ители рода — крохотные многолетние растеньица, плавающие обыкновенно в большом количестве на поверхности стоячих 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ут они крайне ред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ки мелкие, невзрачные, однополые, появляются в кармашк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75px-Eendekroos_dicht_bijeen" descr="Lemna minor"/>
          <p:cNvPicPr/>
          <p:nvPr/>
        </p:nvPicPr>
        <p:blipFill>
          <a:blip r:embed="rId2"/>
          <a:stretch/>
        </p:blipFill>
        <p:spPr>
          <a:xfrm>
            <a:off x="5105520" y="198108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оде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кает длинные, сильно разветвлённы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ебл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растущие чрезвычайно быстро и достигающие нередко длины более двух ме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очки ярко-зелёные, прозрачные, от продолговато-яйцевидных до линейно-ланцетных, слегка курчавые, острые, по килю мелкопильчатые. В макушечных частях стебля листочки бывают всегда светлее окраской, нежели в ниж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75px-ElodeaCanadensis" descr="Элодея канадская"/>
          <p:cNvPicPr/>
          <p:nvPr/>
        </p:nvPicPr>
        <p:blipFill>
          <a:blip r:embed="rId2"/>
          <a:stretch/>
        </p:blipFill>
        <p:spPr>
          <a:xfrm>
            <a:off x="5410080" y="2057400"/>
            <a:ext cx="26193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бом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рневи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о ползучее, стелющееся, пускающе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теб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уз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ую оригинальность кабомбы представляют её подводны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с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не цельные, а веерообразные, мелкорассече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Цв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большие, серебристо-белые с жёлтой серединой или просто желтоватые с трем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епест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рем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чашел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ение происходит ранней весной, в апреле или м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бомба водная"/>
          <p:cNvPicPr/>
          <p:nvPr/>
        </p:nvPicPr>
        <p:blipFill>
          <a:blip r:embed="rId7"/>
          <a:stretch/>
        </p:blipFill>
        <p:spPr>
          <a:xfrm>
            <a:off x="4921200" y="2057400"/>
            <a:ext cx="368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стебельное растение с игольчатыми листьями темно-зеленого цвета и красноватыми стеблями. Растет в толще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е достаточно светолюби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сли на его листьях поселяются ред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Роголистник темно-зеленый (Ceratophyllum demersum)"/>
          <p:cNvPicPr/>
          <p:nvPr/>
        </p:nvPicPr>
        <p:blipFill>
          <a:blip r:embed="rId1"/>
          <a:stretch/>
        </p:blipFill>
        <p:spPr>
          <a:xfrm>
            <a:off x="914400" y="175248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чч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ччия плавающая относится к моховидными из группы печеноч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у мхов, ни настоящих побегов, ни корней у нее нет. Плавая у самой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разрастае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ая высота: 1 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ные местообит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ячие воды, размещение: закрепите на опоре или оставьте пл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Риччия"/>
          <p:cNvPicPr/>
          <p:nvPr/>
        </p:nvPicPr>
        <p:blipFill>
          <a:blip r:embed="rId1"/>
          <a:stretch/>
        </p:blipFill>
        <p:spPr>
          <a:xfrm>
            <a:off x="609480" y="1752480"/>
            <a:ext cx="280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бы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33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304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ноголетне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одно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растение с длинным толстым мясистым горизонтальны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орневищем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вающие на поверхности воды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исть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плотные тёмно-зелёные. Листья, находящиеся в толще воды, — полупрозра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ки крупные жёлтые, сидят на выдающихся из воды цветоно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д с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е может цвести всё л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75px-Nuphar_lutea_170803" descr="Кубышка жёлтая"/>
          <p:cNvPicPr/>
          <p:nvPr/>
        </p:nvPicPr>
        <p:blipFill>
          <a:blip r:embed="rId6"/>
          <a:stretch/>
        </p:blipFill>
        <p:spPr>
          <a:xfrm>
            <a:off x="762120" y="19051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22T09:37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